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7.png" ContentType="image/pn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78F-40B4-4CAC-B332-CFB83B87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048-336A-4EA6-B084-250B3882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1FE-4EE2-44ED-B699-E05EBA9C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B0B-91D9-4E97-B286-3E329F0E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E6D-73C2-459B-9866-875780AC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25A-25D4-49E2-A114-00204DDC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DC9-2821-428A-918A-F4437274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139-25DD-4897-B076-26099232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A21-E492-4760-8F9B-243E6C0D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011-7CCA-4229-A39A-B655C4B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3BB-6E4A-4975-9387-D647D90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D23-314C-4CB5-A467-8D266D5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DAE1-27E0-4EDE-A2DC-DCEFBA3B1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38960" y="8380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  幸福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37520" y="15559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届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大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7920" y="6121440"/>
            <a:ext cx="1222380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920" y="-22320"/>
            <a:ext cx="10277280" cy="412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1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01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1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7920" y="2886120"/>
            <a:ext cx="1219824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7920" y="6705720"/>
            <a:ext cx="122000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920" y="6705720"/>
            <a:ext cx="121982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dc:language>en-US</dc:language>
  <cp:lastModifiedBy>微软用户</cp:lastModifiedBy>
  <dcterms:modified xsi:type="dcterms:W3CDTF">2014-08-22T06:48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